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740B-A52D-4C00-8ED7-2A52D8C28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3883-EA4A-4135-86C1-DAAA7EE9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26CC-20A4-40BF-96D8-416730672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7285-AD0F-48F4-9A76-9BE793CBE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C131-1336-4561-8F6D-1805A4780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5FAB-EB43-4236-A412-3F29ADAC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D914-BC56-4891-811C-AC77C326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1482-D6B1-480D-ACC4-9C75D2AD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0524-85C2-4316-AC87-866E7C48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1808-8A53-431B-AD8D-EBBA20D7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3390-D8E2-43C3-BA7B-5857FE93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6EE0-FCB9-4440-AEB5-1768FB9B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2D8D-45E7-43C7-AB5C-BF52A7D2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E9D8-7696-4A57-89D4-C24DB558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AF5A-346E-4C49-9E15-1609D5DD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39EB-F260-45AA-972A-35D1D78BD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E26E-B954-4944-9796-C8F43264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C4B6-48FA-4475-8E35-6C0FC1A1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9101-6802-4B81-8621-46E3C09F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77E6-2390-427A-8E2F-ECE76116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06EF-800F-4E11-BCD3-A4F7E7F7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2F94-38AD-40CC-A547-000A6731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46F5-AB84-46A5-9853-255E7F77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3012-5D52-47F9-8B8D-7D2842D9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187B-E8EE-48ED-881E-31351CA5C50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09CF-1DBD-4BFB-AC0F-08323791232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905120" y="2209680"/>
            <a:ext cx="59436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Are you ready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for college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3416400" y="5548320"/>
            <a:ext cx="1741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Dr. Carol Gordo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Boston University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20 August 2003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ill your students be ready for colleg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2286000"/>
            <a:ext cx="7924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ourse:  Special Educa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Research Topic: Disabiliti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ssignment: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ollect current articles that pertain to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spects of disabilities covered in clas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Summarize each article and relate it to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ourse reading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ill your students be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ady for colleg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2286000"/>
            <a:ext cx="815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urse:              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port Psycholog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Research Topic: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n area of your interest in Sport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                          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Psycholog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ssignment: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rite a 14 page research paper on any aspect of sport  psychology that include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tatement of the problem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Literature review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ta collected from a survey or questionnair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nalysis of resul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ill your students be ready for colleg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92080" y="2286000"/>
            <a:ext cx="82519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urse: 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oundations of Educational Inquir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Research Topic: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ly Childhood Education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ssignment: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rite a proposal of an aspect of early childhoo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ducation that interests you. Includ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tatement of the problem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ignificance of the problem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Review of the Literatur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Plan of inquiry and Resourc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ill your students be ready for colleg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228600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ourse: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hysics for Science Teache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Research Topic: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How does Physics affect our lives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ssignment: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hoose an area of physics conducive to problem solving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(e.g., physical force, centrifuge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onduct an experiment or apply a concept to solve 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roblem (e.g., How can force be used to separate particles i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olution to produce a medicinal drug?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rite a report in science format and publish it electronically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 WebCT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ork with a partner to assess the work of another studen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hich you access from WebCT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ill your students be ready for colleg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3480" y="2379600"/>
            <a:ext cx="77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ourse: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ORE Scienc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Research Topic: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onsciousness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ssignment: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3366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Write a two page paper that defines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onsciousnes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3366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Use at least two sources other than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he class textbook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837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ill your students be ready for colleg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2133720"/>
            <a:ext cx="8534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ourse:  Introduction to Scientific Archeology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Research Topic: Analyzing artifacts from an archeological di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ssignment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tudy the contents of the packet from a dig in Belise that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ontains: organic remains; map and background inform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of the site; pottery shards and dates; floral and fauna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remains; radio carbon dates; cross-section view of thre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features on the site (3 mounds that had occupation levels, tw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of which were burials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rite a 4-7 page paper that analyzes the site using wh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you learned in lab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nswer five outlining questions (e.g., Include any hypothesis you derive from the site such as migration patterns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ill your students be ready for colleg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2362320"/>
            <a:ext cx="8305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urse: 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dren’s Literatur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Research Topic: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ooks for children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ssignment: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oose a theme in literature for children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e.g., disabilities) and a grade level rang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mpile an annotated bibliography of 50 books fo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dren that includes, reading level, full citations,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nd annotation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librarian as a role mod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preting standar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signing instru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signing accountable curricul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essing product and proce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ducting action resear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ing a change ag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HIEVING CREDIBILITY= MAKING A DIF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4:32:23Z</dcterms:created>
  <dc:creator>cgordon</dc:creator>
  <dc:description/>
  <dc:language>en-US</dc:language>
  <cp:lastModifiedBy>Carolyn Markuson</cp:lastModifiedBy>
  <dcterms:modified xsi:type="dcterms:W3CDTF">2009-12-15T00:27:41Z</dcterms:modified>
  <cp:revision>2</cp:revision>
  <dc:subject/>
  <dc:title>PowerPoint Presentation</dc:title>
</cp:coreProperties>
</file>